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66527"/>
        <c:axId val="57166753"/>
      </c:barChart>
      <c:catAx>
        <c:axId val="37866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6753"/>
        <c:crosses val="autoZero"/>
        <c:auto val="1"/>
        <c:lblAlgn val="ctr"/>
        <c:lblOffset val="100"/>
        <c:noMultiLvlLbl val="0"/>
      </c:catAx>
      <c:valAx>
        <c:axId val="57166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6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0F5-BA32-493C-8774-D81326C5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4B9-73BA-4611-A1E2-BD3E8A45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36B-11F8-45B7-AFDA-E8CF4EFE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7FE-12BF-4740-A470-5AAC778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B7E-0665-4E15-BD6D-201AD9C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4E9-FFC4-44EF-92CB-27FBF30F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2FA-916A-4005-A93C-A41A0ACB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F79-BD6F-4231-BFB5-E20604BA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461-DD29-4B19-9572-5BBF50D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886-2B15-474E-A04C-0316AE7A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94E-737A-4353-8C2B-722A0E20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51F-242C-4F82-9EEE-A9E93325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A0BC8-ABE1-4D5B-BD72-B454611695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