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04399"/>
        <c:axId val="79989535"/>
      </c:barChart>
      <c:catAx>
        <c:axId val="59104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89535"/>
        <c:crosses val="autoZero"/>
        <c:auto val="1"/>
        <c:lblAlgn val="ctr"/>
        <c:lblOffset val="100"/>
        <c:noMultiLvlLbl val="0"/>
      </c:catAx>
      <c:valAx>
        <c:axId val="79989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04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935-063E-4EDC-A2F2-3C103D9E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1E6-4467-4C9C-B404-7D9E0E60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C09-CC87-479E-B5F4-84773FF0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148-DB02-4CD1-B817-C1623FCA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F0E-2456-4A83-8840-EC09D8C4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AB2-DA90-439B-B0CC-A4E43D3E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03B-40BA-4DAD-B6F5-2E80697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1EC-06A7-4EE8-8FDD-1F8502B5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CE0-39DB-4052-9BFB-D792B16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CCA-3C47-4F1A-84DE-E1EFEA6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2DE-190E-4CD6-82DA-BFA82BE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BB2-FE94-4F05-BB7B-4E0454E9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81B19-3438-4323-B41B-E63AF3223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