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44501"/>
        <c:axId val="83486652"/>
      </c:barChart>
      <c:catAx>
        <c:axId val="10644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86652"/>
        <c:crosses val="autoZero"/>
        <c:auto val="1"/>
        <c:lblAlgn val="ctr"/>
        <c:lblOffset val="100"/>
        <c:noMultiLvlLbl val="0"/>
      </c:catAx>
      <c:valAx>
        <c:axId val="83486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44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F14-E1A7-4A18-A8CC-C0FC4986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358-7FAA-457C-A454-8F076DB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64B-CBD6-44ED-88AF-E2E0FF2C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8663-2F6F-49C8-81A9-8F5B400B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86C-56DC-49C7-A383-92160AE8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93E-D591-4CAE-9A2D-E2F1622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BC2-A312-489B-A253-4BC29B58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45B-EEE5-4EE9-B8FD-A767BE3A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514-FC27-4387-95E4-CB2747A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B1E-D0AE-4605-BD59-FB5E93C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AAB-8EC3-47B2-B542-EB5E9C00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7B8-17A9-44C6-B412-6CCCC18C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5794B-1399-40A9-8D18-3D8AA5A29E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