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21057"/>
        <c:axId val="84246201"/>
      </c:barChart>
      <c:catAx>
        <c:axId val="14321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6201"/>
        <c:crosses val="autoZero"/>
        <c:auto val="1"/>
        <c:lblAlgn val="ctr"/>
        <c:lblOffset val="100"/>
        <c:noMultiLvlLbl val="0"/>
      </c:catAx>
      <c:valAx>
        <c:axId val="84246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21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E95-D687-4C9E-932F-BD9B6E0D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E56-E624-49A1-A313-60117108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7BC-ADF9-4F3D-855D-04A7D6FA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ACD-C6CC-41BB-A5B3-A94AD35D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8D2-5B70-4B89-B481-2E04F424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1FE-8DE3-4BC4-967A-DAF093A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32D-7F03-427F-8A27-2648CF27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AF3-B064-4AA2-A6C8-FA01BF9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58B-1540-4D3E-A0F4-60C8255F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A0D-7BB2-4C8C-992F-5006FCD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7A5-2F40-40CE-86E4-0FE7631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174-A54C-4ADB-BDB2-31C0191A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4CCAB-C834-4AF8-8892-4D65BAD3C6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