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45733"/>
        <c:axId val="51156467"/>
      </c:barChart>
      <c:catAx>
        <c:axId val="95745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56467"/>
        <c:crosses val="autoZero"/>
        <c:auto val="1"/>
        <c:lblAlgn val="ctr"/>
        <c:lblOffset val="100"/>
        <c:noMultiLvlLbl val="0"/>
      </c:catAx>
      <c:valAx>
        <c:axId val="51156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5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748-785D-4503-A54A-F0A22909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D43-C35D-4AA1-AED8-B7A2332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9D9-7B48-4871-A98F-50CD44C5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D5C-8D71-40DD-933A-28DD2993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7B9-2912-4161-B508-076DA7E1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1E8-9E7D-4DFB-B9BB-0BA7CECF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652-64BE-4536-89F2-F9725F52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7D8-130D-4390-879E-4C7EBF6F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3A7-5FED-4577-BEB8-730B1639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636-1DFB-45D6-93E9-CC6EAE1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144-C1EA-40AF-83BF-FE29318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1D4-D58A-4E53-A694-CF69965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96C66-70D6-4665-A9FF-6517CA76E5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