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7633"/>
        <c:axId val="66641348"/>
      </c:barChart>
      <c:catAx>
        <c:axId val="6387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41348"/>
        <c:crosses val="autoZero"/>
        <c:auto val="1"/>
        <c:lblAlgn val="ctr"/>
        <c:lblOffset val="100"/>
        <c:noMultiLvlLbl val="0"/>
      </c:catAx>
      <c:valAx>
        <c:axId val="66641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7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F99-B51A-4E8F-A64D-90F75D5D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71F-AEC7-486E-B3B3-CF30355D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496-9D3C-46D3-B121-4C2162B7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484-66BA-4DE6-8CF8-9D8955FD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94F-45F7-43AB-9E4F-48D7B383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05E-7F1B-4197-86CA-758B5C2C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850-69EC-438A-8DF7-3A6094CE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16A-5C3D-40B9-8345-E0E64238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E84-764E-47C0-A705-E4953613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A82-EC96-4855-B644-0C817D42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F259-EA05-46F2-AA14-84CC6C90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9DEA-8C96-4FF3-82AC-765867A6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BEF58-CA7E-4652-AE0C-8374572718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