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26736"/>
        <c:axId val="8832835"/>
      </c:barChart>
      <c:catAx>
        <c:axId val="24926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2835"/>
        <c:crosses val="autoZero"/>
        <c:auto val="1"/>
        <c:lblAlgn val="ctr"/>
        <c:lblOffset val="100"/>
        <c:noMultiLvlLbl val="0"/>
      </c:catAx>
      <c:valAx>
        <c:axId val="8832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26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26C-0635-4C00-ACAE-A3D3C4A8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907-0F15-4188-A451-3288BE52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F2B-AD06-421C-A02D-6590B50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D5A-AEB5-4559-BC7E-859C06CB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072-4BAA-4EF8-A506-DB16D03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66C-B8E2-4E51-B82B-0F65990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5B7-BAEF-4FF4-8F2C-FD7D62B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B98-5274-439E-80D4-B345EC5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305-63D5-42BB-AAFB-C68BAB66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491-2A70-4BDD-AB64-BD36291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4D4-09A2-40C9-9BCC-D6848DBE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ACD-D0B2-47BC-A042-EBD635F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B8674-BA90-4A58-B7EA-4C3E60ABF5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