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94214"/>
        <c:axId val="11214648"/>
      </c:barChart>
      <c:catAx>
        <c:axId val="979942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14648"/>
        <c:crosses val="autoZero"/>
        <c:auto val="1"/>
        <c:lblAlgn val="ctr"/>
        <c:lblOffset val="100"/>
        <c:noMultiLvlLbl val="0"/>
      </c:catAx>
      <c:valAx>
        <c:axId val="112146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942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418-6C3F-4857-BCFC-FD3EA2CF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C59-85C3-440F-8434-D52FCE68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6C22-578D-4CC3-94DF-2CC39ADC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BDE-E7E7-4FE0-BA81-D4E09602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58E6-B2E3-4A10-9E6F-9E595055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54D-B0E8-4119-B1F4-7CB8F52F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684-CA2A-430B-9AB1-C14E3813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E55-37F8-4652-B36F-48DE04A3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350-04B2-4886-B2DB-3379BB2F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5D19-0950-4608-B465-7418031C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0F6-9427-4CB0-9706-3391BDAC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65A-0114-4401-A6BC-1AB3963F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6C7FF-CC88-4F3F-813C-6807D93C06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