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85447"/>
        <c:axId val="7869420"/>
      </c:barChart>
      <c:catAx>
        <c:axId val="35285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9420"/>
        <c:crosses val="autoZero"/>
        <c:auto val="1"/>
        <c:lblAlgn val="ctr"/>
        <c:lblOffset val="100"/>
        <c:noMultiLvlLbl val="0"/>
      </c:catAx>
      <c:valAx>
        <c:axId val="7869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85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6F8-D352-4D43-ACDF-D7AC7D41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962-EDE8-4236-AA5C-3875A2A9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A2B-6384-4BBC-9580-4A086C3E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12E-BA8E-43C7-86D6-23D4AD05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933-FF81-44A2-A696-5A388715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0D1D-384D-41C1-A0D6-075FF49A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7F7-DF4D-4AC9-8D8C-1EEEC281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F60-2601-4469-A7D8-BD4F9309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4C1-F9E5-468F-AA8C-C258AE00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B5C-BDE5-457B-A5D1-9B9433F1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951-95DA-4EE9-B958-FDD03A40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721-83C9-45C8-A927-D5ED16BB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49656-2C24-4A06-8F77-02BE4BB722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