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750473"/>
        <c:axId val="26706975"/>
      </c:barChart>
      <c:catAx>
        <c:axId val="997504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706975"/>
        <c:crosses val="autoZero"/>
        <c:auto val="1"/>
        <c:lblAlgn val="ctr"/>
        <c:lblOffset val="100"/>
        <c:noMultiLvlLbl val="0"/>
      </c:catAx>
      <c:valAx>
        <c:axId val="2670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7504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2D2D-0EF3-481C-A2CE-BA79462ED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FAE-DBEF-4353-9F67-F4AA73D5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9723-1D35-4B9A-B883-EE7F4C339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37B-8406-4FCA-81C3-9670A38CC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5AF-A182-4C5F-B9C2-19BB7D8C8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FBAF-8905-452C-97B8-19DAB4E63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DE0D-4368-4D52-90FB-C91D85A6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924D-8B22-4CE7-939A-90AF6696E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A8AE-D497-45E2-9E7B-9F4BE48A8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14F45-4C6A-47CB-879C-94C2B0F68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D94-7A10-414A-9FCC-15179BE6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999-FCB9-4B09-9BF2-0DC7E3E9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2AD4C7-3CD6-4C45-9394-518915F0DA6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