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96943"/>
        <c:axId val="58686430"/>
      </c:barChart>
      <c:catAx>
        <c:axId val="82996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6430"/>
        <c:crosses val="autoZero"/>
        <c:auto val="1"/>
        <c:lblAlgn val="ctr"/>
        <c:lblOffset val="100"/>
        <c:noMultiLvlLbl val="0"/>
      </c:catAx>
      <c:valAx>
        <c:axId val="586864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96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53B-26C5-4B7F-98FA-7D35404C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5B7-B125-4391-882A-AE943DC8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C30-D1A3-4734-95E5-C286E473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91D-1EA1-46C5-8188-27CF9232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C30-18B9-4679-B9C3-51F2D04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8A4-6A32-4537-9FE5-984DCDCC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D5D-0019-484B-8FEC-CF505450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C03-96E8-4FCD-985B-6B3C68CB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7C4-FE8D-4C2C-B337-17D10335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D02-9206-40F6-A285-459B49D5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33B-43C7-440C-B72A-8F47BF4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DAD-0291-4361-B7C7-07434EC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8D800-B450-4663-AD66-BEAE28FECE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