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07385"/>
        <c:axId val="12744630"/>
      </c:barChart>
      <c:catAx>
        <c:axId val="62073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744630"/>
        <c:crosses val="autoZero"/>
        <c:auto val="1"/>
        <c:lblAlgn val="ctr"/>
        <c:lblOffset val="100"/>
        <c:noMultiLvlLbl val="0"/>
      </c:catAx>
      <c:valAx>
        <c:axId val="127446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73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1BF-C06E-471F-AB45-BDCFABFE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528-BE04-45FE-99B0-4DC15A0C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A6E5-2B3F-4E12-8C62-7780EF2C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4D7-8AF0-4F93-B82E-7569AA588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326A-D97A-4C11-BA41-6D313D377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DFA-0E10-4853-B44B-98C3A120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1E53-1FE2-4881-9D44-ADB59F2D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ED63-1D3C-4136-A3D5-AB2C1C2A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FCD6-807B-424A-8C8A-8DC512749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9FCE-8491-4630-870C-5F2AB00B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EB0-D0D6-4782-B8C1-2E342693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C98-0D43-492B-AA67-3DDC7746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55DD75-DE22-40E9-937B-7468E9534E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