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23250"/>
        <c:axId val="44483484"/>
      </c:barChart>
      <c:catAx>
        <c:axId val="81023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3484"/>
        <c:crosses val="autoZero"/>
        <c:auto val="1"/>
        <c:lblAlgn val="ctr"/>
        <c:lblOffset val="100"/>
        <c:noMultiLvlLbl val="0"/>
      </c:catAx>
      <c:valAx>
        <c:axId val="4448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3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D93-AE42-4328-90EE-4A68D658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787-224A-44C8-806B-1E5288E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E99-B827-462A-8CB7-929F2D03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65D-C7D0-4F63-9DCB-81385F7F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F37-5B04-4522-BF46-10AD6978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944-4395-4881-A390-A30D52E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879-E686-48FE-909B-30C167F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4C5-029E-444E-A473-5C9CA8E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09A-45A9-4A1B-A785-075044C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46A-17DD-4D71-A19B-70A0C10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334-CA16-45D3-9D55-D2254E6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099-AFAC-477D-BE71-1E5F387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E9B59-4D6C-4DCF-8359-EC6873568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