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01645"/>
        <c:axId val="47943483"/>
      </c:barChart>
      <c:catAx>
        <c:axId val="1550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3483"/>
        <c:crosses val="autoZero"/>
        <c:auto val="1"/>
        <c:lblAlgn val="ctr"/>
        <c:lblOffset val="100"/>
        <c:noMultiLvlLbl val="0"/>
      </c:catAx>
      <c:valAx>
        <c:axId val="47943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D02-B5E8-486D-B79D-F4D016AC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004-2810-4871-A7D7-5BEE10D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079-AEA5-45AA-B21F-7565B11D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C70-8E5B-4E95-8CCD-800B8C39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B1A-6DD4-4E9D-8433-7F0A0932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160-C1DC-49E6-9B6A-8D7F337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765-B932-4BAA-9280-074B798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ABC-2D87-457B-BED3-A93619C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288-5D01-4038-B4E4-EFB176E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FBB-EE08-4C24-AC43-F5D2C00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B74-8A14-4B1D-B156-9850276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224-68D8-47C0-BEC3-1953AC0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3706D-478B-47BD-8056-0978822A0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