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62686"/>
        <c:axId val="11679030"/>
      </c:barChart>
      <c:catAx>
        <c:axId val="15462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9030"/>
        <c:crosses val="autoZero"/>
        <c:auto val="1"/>
        <c:lblAlgn val="ctr"/>
        <c:lblOffset val="100"/>
        <c:noMultiLvlLbl val="0"/>
      </c:catAx>
      <c:valAx>
        <c:axId val="11679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62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570-1F41-4339-956B-56F30D68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D97-BAA9-4A9A-9DE4-B66F2974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29C-188C-4B36-A56A-2AAF5FDD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48A-4B60-449C-B381-5D3FAE3A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9D2-A7B6-4C82-9BCE-126DF15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790-DFEB-4651-A7E3-9A46C41B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358-EDF3-4080-90B3-C0DCDC3C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3A0-F265-4991-AF92-8BA9253B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23D-1CA5-433C-93A0-6EEB098E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AE0-2BA9-42E2-9540-DD14C39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ADD-5512-4A90-8201-FB305C1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249-E140-403B-84B9-24E1B54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6177E-B2E8-42EE-A19C-6F95ED6BB9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