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28648"/>
        <c:axId val="12294060"/>
      </c:barChart>
      <c:catAx>
        <c:axId val="30728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94060"/>
        <c:crosses val="autoZero"/>
        <c:auto val="1"/>
        <c:lblAlgn val="ctr"/>
        <c:lblOffset val="100"/>
        <c:noMultiLvlLbl val="0"/>
      </c:catAx>
      <c:valAx>
        <c:axId val="12294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28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847-820B-4254-988F-C5BF0233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E34-059C-42FA-AF78-1CB9A768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0E2-0031-4D73-A9B3-735963BB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3D1-8097-4747-B671-08AA5E56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045-2943-4DE5-A5FF-A6CCA538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6C8-548E-4201-B4D6-740E0DE4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411-E172-4C21-9621-499B08E9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243-D086-4FE6-8AC7-116786DF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ABA-6564-4900-98FE-834AE40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520-3420-4523-B53A-A5B6100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C8B-783D-42E1-B68A-8D860BF2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751-052C-406F-AE74-9B03BB6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7B3E1-EDCE-492B-A3A5-5405B5A93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