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78836"/>
        <c:axId val="60022534"/>
      </c:barChart>
      <c:catAx>
        <c:axId val="96278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2534"/>
        <c:crosses val="autoZero"/>
        <c:auto val="1"/>
        <c:lblAlgn val="ctr"/>
        <c:lblOffset val="100"/>
        <c:noMultiLvlLbl val="0"/>
      </c:catAx>
      <c:valAx>
        <c:axId val="60022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78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B13-F20A-4B30-BE72-B139CB0B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A03-158E-4720-969F-72352A8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B7B-0358-4879-8C97-C878D032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9D5-84CF-4F19-A9B3-01BA4C65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6A3-6F41-4821-A60D-75F4164A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DFA-4662-4882-A4DE-CA3942CB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E5F-CCEE-4E8B-9612-E5341A5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30A-ECEB-4ABF-A95D-0CE7ECCD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33B-ED4D-4F79-A3B8-75C2AE22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8FD-1C5F-49EA-B39E-22D2AE0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CF2-6577-4279-9D24-86F98CC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F8F-8473-420C-9619-4E4178B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44CF6-2773-414F-894A-55336CE4B5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