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94483"/>
        <c:axId val="66069873"/>
      </c:barChart>
      <c:catAx>
        <c:axId val="27094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69873"/>
        <c:crosses val="autoZero"/>
        <c:auto val="1"/>
        <c:lblAlgn val="ctr"/>
        <c:lblOffset val="100"/>
        <c:noMultiLvlLbl val="0"/>
      </c:catAx>
      <c:valAx>
        <c:axId val="66069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94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94B-6F2B-4903-BC40-D0D37943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D31-EA8A-4065-A83D-7FD3576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683-94CB-4E61-B60E-AE47CB5A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B5C-5689-41AE-B828-F2FC50B9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CE9-3014-4A71-BECF-8D83ED68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01D-83D2-4818-9813-1E300D97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2A9-9A70-431D-B523-3EBC836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D88-160C-4F5C-9E04-855DEF0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55E-EA61-4852-8395-EF615C3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342-8902-4AAD-8D53-A2BDA89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F66-3C2E-405F-AC8F-9C3CB97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F9D-32F9-4450-A0CD-7FB54F6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DDC01-A0DA-449E-894A-67AA4FF6C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