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46215"/>
        <c:axId val="32140277"/>
      </c:barChart>
      <c:catAx>
        <c:axId val="84346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40277"/>
        <c:crosses val="autoZero"/>
        <c:auto val="1"/>
        <c:lblAlgn val="ctr"/>
        <c:lblOffset val="100"/>
        <c:noMultiLvlLbl val="0"/>
      </c:catAx>
      <c:valAx>
        <c:axId val="32140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46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3AF-A8CD-4953-A210-A0039E35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B31-3E57-43D7-9D0B-EACA08CF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D79-CD36-48B4-8147-D8E114A1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E36-C838-4503-AE91-272B490F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ADC-7852-424E-8905-AF70BD3C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286-CAE4-49CD-9989-9153F841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A2D-A403-48DF-BE62-0BE1EE7D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952-D7BD-421C-8A4B-E19ED451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15C-CF8A-4F3C-8F8D-5A449BE9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C05-B5AA-4559-974C-B0B4174E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83C-C9EB-446B-B00F-AD2B0866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1A7-EF3E-45E7-AFDD-BBF8306A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C8043-5A93-4A2D-A741-DAAB893701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