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712469"/>
        <c:axId val="69628450"/>
      </c:barChart>
      <c:catAx>
        <c:axId val="94712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28450"/>
        <c:crosses val="autoZero"/>
        <c:auto val="1"/>
        <c:lblAlgn val="ctr"/>
        <c:lblOffset val="100"/>
        <c:noMultiLvlLbl val="0"/>
      </c:catAx>
      <c:valAx>
        <c:axId val="69628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12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941-E492-41EA-B4DA-781A5027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A89-1569-4C28-99B6-B2F0D486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D3A1-FD37-4987-AEE4-40A49CB8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95F-4029-4EE8-AACA-65CBA2BA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C17-D764-441D-BF5E-CC43F05F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395-EFCF-431E-8523-CD830B53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7E6-9A3A-4E99-A19F-0EFCB297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110-F76A-4050-848D-24D5D185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334-61FC-4069-B8A1-3419A664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38F-821C-46CE-A1B2-F377F171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20E6-9EBA-48AA-BFAD-1D811E98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45C-E16F-4907-A71A-1F02F60F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A479C-39D9-4573-A8B0-BBCF24B2F7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