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20587"/>
        <c:axId val="6695174"/>
      </c:barChart>
      <c:catAx>
        <c:axId val="66120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5174"/>
        <c:crosses val="autoZero"/>
        <c:auto val="1"/>
        <c:lblAlgn val="ctr"/>
        <c:lblOffset val="100"/>
        <c:noMultiLvlLbl val="0"/>
      </c:catAx>
      <c:valAx>
        <c:axId val="6695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20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993-2994-46E5-9EFF-60CE3A93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326-8888-4574-8C01-39D05EF0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D64-8EFF-45F9-8660-765693D4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176-4239-4D1D-92EC-306E503B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B66-3AA2-4A86-AFAB-B6E3DF70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262-F0E3-41A8-9BAC-432DEAC0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096-937E-431F-B9A4-CAEA5EAC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341-BF20-406A-BF4E-F214B0A7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C6A-86E2-4A08-AC71-EBFA0198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ED0-BBA9-408B-8E2F-09236438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F90-A9F1-4245-988B-BDB44277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507-C77A-409B-84AD-44D85EDD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44EC6-1DAC-4193-A188-320A66F3A8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