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71303"/>
        <c:axId val="36137835"/>
      </c:barChart>
      <c:catAx>
        <c:axId val="75971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37835"/>
        <c:crosses val="autoZero"/>
        <c:auto val="1"/>
        <c:lblAlgn val="ctr"/>
        <c:lblOffset val="100"/>
        <c:noMultiLvlLbl val="0"/>
      </c:catAx>
      <c:valAx>
        <c:axId val="36137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71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4A2-868A-48E3-8EA0-3BBDAAAD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48A-F7C5-42CF-B565-D7F14CED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517-6E26-4CA6-A750-FDB69A6F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4D0-F64C-49CB-A796-B6ABFE15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E9E-ACAA-4731-96DF-A1A565E6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01E-8E03-40B1-AB5B-741E1448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312-A511-4049-A5B1-C6D1C40C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CD9-B7AB-4840-A678-66E4EC4A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865-5EAD-44C4-9643-A02E8E3C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AF0-1CF6-45E7-8619-68D3A410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0B1-0535-4EE6-A437-DBDA138F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E11-5028-4DAE-9B63-9A84CF52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C7C70-5269-4032-9C92-BA6C9928B8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