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32601"/>
        <c:axId val="58959366"/>
      </c:barChart>
      <c:catAx>
        <c:axId val="39732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59366"/>
        <c:crosses val="autoZero"/>
        <c:auto val="1"/>
        <c:lblAlgn val="ctr"/>
        <c:lblOffset val="100"/>
        <c:noMultiLvlLbl val="0"/>
      </c:catAx>
      <c:valAx>
        <c:axId val="58959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32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3D1-9763-4D84-B64E-A6F3B907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922-E20D-4A31-80DF-71E7F674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6264-8966-48F8-83CE-D0BB2DFC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D98-D8C1-4DB5-8F81-F535F51C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CC1-951D-4156-9F69-43DBBCB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4F0-E264-48A0-99FC-2C89002B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E68-9647-423E-AD10-19334118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E4C-304B-40D8-98BD-261B974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AC0-BBE8-4F82-8106-8BEED146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D72-1DD9-40A0-988E-C84216A7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CEF-FC0C-4A67-938A-1FA2AA2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BC3-3CD8-4682-897C-C36AE6AB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D4A77-6E1B-4BBC-8491-19FBCE9840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