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65130"/>
        <c:axId val="39615949"/>
      </c:barChart>
      <c:catAx>
        <c:axId val="85565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15949"/>
        <c:crosses val="autoZero"/>
        <c:auto val="1"/>
        <c:lblAlgn val="ctr"/>
        <c:lblOffset val="100"/>
        <c:noMultiLvlLbl val="0"/>
      </c:catAx>
      <c:valAx>
        <c:axId val="39615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65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00B-2F81-487A-A3FA-6AFC9A08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5FC-DFAA-47F4-80A6-DB654299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F36-5833-4D13-B4DF-7E21A0AB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4D2-8F8C-4C6C-A062-B2A0FE63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A52-6F5F-4EF7-AFC1-BFF4F1E1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D75-90F8-476D-8DC5-65AC97D6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45A-02AE-4A8B-93FF-6498707E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3D8-E4D3-40D4-B9AF-11F90A4A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2AA-FADC-4E0E-949D-D508167E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1B3-0196-43E7-BBD4-E3EB7262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958-BC9B-48A2-AA6E-1A2C9A70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002-859F-4CF7-B84E-EA4133F2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67FE9-2DE6-4812-90DE-D7682297FB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