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08694"/>
        <c:axId val="47769329"/>
      </c:barChart>
      <c:catAx>
        <c:axId val="850086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69329"/>
        <c:crosses val="autoZero"/>
        <c:auto val="1"/>
        <c:lblAlgn val="ctr"/>
        <c:lblOffset val="100"/>
        <c:noMultiLvlLbl val="0"/>
      </c:catAx>
      <c:valAx>
        <c:axId val="47769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086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401-C2BC-467D-B7D1-423052D4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546-4B57-497A-ABFC-F5B78C0D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6EF-3862-4305-BFA6-DD37C912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63E-4696-46D2-96DA-DCFFA49C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D02-570D-4752-8C1E-ACFD2ADF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AB4-0E85-42AB-8A35-ACCCD6AC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E67-8E58-4151-AFA3-DB33590D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852-9B3B-4B97-8B7D-AE424010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87F-004A-4183-ABA1-4B53E2F3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102-C44A-4F2F-A9F2-F6A85F70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C54-A644-48E6-83A3-3AEA12E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2CA-E955-45FE-840E-B15983AC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85231-59E0-45CA-B3AB-F64F8A30E2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